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3BE1D12-B039-4E4E-8D16-BF492ABBF47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581CCC3-D970-413E-BE53-99D5EAF8BB9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8E42F62-0E47-47B7-84DF-3AA74A8CAB0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0234224-BBFE-41C6-A645-17B82A87634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041CCBD-40C4-4F35-A7C6-4A25D521CCC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7308D07-953A-4C58-B0A1-726F432F9FF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2FD0E03-B5BD-4722-977D-EF3703623C9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29129A9-E83A-44BF-86F6-1D04C5BF63B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775D1C4-E7B0-4A7D-8366-7DCCDFDB4A0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37D812D-556B-417F-83BB-6902254641E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374227C-FF6B-44E2-9249-622ED2A4BA8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0A0157E-29EB-471C-935E-48D74705D7B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0386EA0-DB5D-48D2-B997-BE61C8BAA89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545D175-6BDD-413D-8729-CD7A4E813A7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9F65089-416C-4402-8068-D7BA0ED8962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9223BE9-0C14-4592-9E92-061C02185BC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7CF3087-EA0C-4824-A283-24EAAD8DAB8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3FA889D-CFD1-428A-B5B8-6BD8F81EDBF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C96885F-6D01-4794-ADDF-807BF3BD466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768D447-3994-4B9B-AC14-E3DD04B0864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E7C00AA-913B-44E7-8F95-A836DEEE895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0379A49-1CF8-486F-955F-D97ED7D5860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C976FA9-5321-4C5C-BD88-C7E721150D4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2D5DB39-2F5C-4985-A71C-ABFE01DC285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18FEB39-D0AA-425F-B516-364673EF91E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9F32CCF-46E6-49EC-A319-717F95B6085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EACF54D-2237-4719-99BD-FF3B9734EAE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A04F403-5EBD-420E-A42A-FF6BBCC55E1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8BC04B8-627B-42B2-81F9-0DD4471E6FD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9942E87-88F1-4785-9C52-8F75B1B0525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E305A86-46B0-43EE-8B39-28746E7AC91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31B42E1-36D1-4939-8E38-DC8AFC29D58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5663008-7108-4271-838C-F68C6143ABA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04629D9-FDF8-4FBB-AD17-850CA9AC457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9CFD6F1-2E4E-4841-99E3-2BF33F407D3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BCCFBA4-D45D-40A7-BC78-7E22520A105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CABCD-546F-4EB1-AB66-437CAB6178F4}"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56EC3-0C72-4572-9255-CAFB0D76BA1A}"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61EA314-3DD1-4C88-935A-48368B28553D}"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3B543AA-F64F-4B9D-9BED-AD5103322BC6}"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83997A7-29E6-46E0-9BD6-A100E1913799}"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0CF3B80-88A3-4E26-8D01-B5FB619CD48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90E3CF7-0DEC-49C8-8EAA-9FA2E514D193}"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3AE5052-8858-4829-9803-FA050CD60C98}"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4DEF75A-B79D-4845-A688-2161A804EF0B}"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5AEE9E9-53C7-413F-9E73-ADB3F0700067}"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D7ACD9F-486C-4769-BD25-A124AE8C5D1E}"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8E75D9D-50A8-404B-A215-2A40789C2F3E}"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2F1DEE4-B309-4FE6-AA6F-AF0EFA542E40}"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221CBCFB-00CB-4D75-B12E-69955A7927D1}"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5D70965-EF6B-42C3-B489-1F7A8BDC7384}"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75915C5-6C17-4AEA-B845-21332014780D}"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C70C987-B7DC-46DE-A853-9DC8E6CD720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6CC2AD7-B6E4-48B9-B287-C71B58465BD3}"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D43648E-0BC7-4042-B2FA-D7AAA4DC5D3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E84F509-843F-415F-AD78-015C180B04A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7DE9B7A-2C44-43E0-95DD-BAEA192A88FF}"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CC49B20-E583-4542-B710-98771EEE7B7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A212596-4DCA-40A7-A811-6EB07015348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7E1988C-492D-45AD-90DF-3E4A1EA9089B}"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A9D554F-E74E-4054-AA97-496D356FCE6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3CA65C7-8286-43CE-82BD-8BB1E0ABE4C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9076BE2-F668-4559-9659-BB54C3DBFA3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99F6205-FC4E-45E2-8311-AE18121E72E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F0C86F3-6DBA-4BA3-AFFE-57846C918B59}"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C60694B-B764-491B-BB76-15D7CB44171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D6FCD37-EA22-4844-AE25-CD4AB6B3AB2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79C3972-B6DF-4E5A-AF7D-21D3541C1BE4}"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BE5792B-16CF-44A1-B465-C6D778E5511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F391559-68F8-4206-87E9-55821DFF563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7869699-01C5-49C3-8739-2BF57DF6A9A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88B511F-2733-475E-973A-0168485F3AA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9118A29-F6F1-4186-AC4A-8F1A6496F78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865782D-BF02-4F10-9B89-F3A9124C106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E86AA82-29A0-4046-AA59-1D8F9354A1B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E064DBE-F56F-4A47-BBF5-92DA73B718E9}"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B3B8079-A512-4056-B7A2-89286363B531}"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96F0F67-A4D2-4D0A-B540-C3C91444BE3F}"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6D1138C-1271-4C57-8DC1-33190E0B1DC4}"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B5BA975-3336-4BB5-8BD5-30126C176065}"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11FD8EE-861C-45B2-A772-279E6C32A7D9}"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843943F-33C4-41FA-9143-AB7757B83492}"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53793EF-7812-450D-A417-91087475FFF1}"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BFCD522-E0C3-4573-B102-8946EB7F5105}"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569F9C7-AAE5-4EFE-9601-53407DCC9331}"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27DC6F0-4B92-49CF-9902-D22A2488A6CA}"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C9CDFE1-4DE0-4682-9CCA-AAA459FD8FA3}"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8C841C4-DD8B-4197-9441-2E40D0AD0B2D}"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8CB87B9-3375-4BD4-8324-9312D46E34D3}"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25014AD-7B3B-4B31-BD38-F4783A623A0B}"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4A19407-4204-487E-A4A2-29CBC534B30A}"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CB38942-CA0D-40C7-A033-8E2BE6FFE99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3DE92FC-C05C-4B20-A851-5493A6FB1FC5}"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D19EFB9-7B8D-4F91-8C98-CA17BE166A11}"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80465C2-9205-4C35-B95C-103E8307BD2A}"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D520D27-FD9B-4C33-91CF-9E8E9408A4DF}"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04F23BE-1BDD-4FBA-B6A5-E365BA93B500}"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A9B1E57-22CA-4BF1-A107-609E37C95281}"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8BA67F4-12AC-4537-B7A9-238643CBF656}"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126DE3B-2C3E-4296-B700-359CF2C4B9CA}"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7C841AC-301F-43FF-942A-D2FD9DB32444}"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39092BA-3838-49B0-AC13-B1D966096E5D}"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4D1343A-27BD-455E-826D-09892E43D450}"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807E87E-8F93-44FE-B4E9-858C513773D8}"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56DC3FC-71AB-4992-B64B-13A8E668B271}"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F82EA7C-2261-43AB-8ED1-1EEE56A6A661}"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EBD0CFA-8F37-4F3C-A935-9BFD69E4D467}"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0885994-A962-4EA1-9D80-39C66EC6D03B}"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10FC425-CB53-4974-8A8B-6449949471D7}"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6830104-EA47-4916-A871-113153D77FE2}"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A6DD440-B2B3-4797-AA05-69E2ECAFD3E2}"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6750765-57AA-4803-A4F8-A477845BF2CF}"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FBA043B-4FA3-4667-B197-FC1477AC8F86}"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6CCF9C7-7F7E-417B-8F3B-EE72A17865DB}"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C8FA2B4-C8B4-48FC-B8F2-F816253F58A5}"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DAE0BA2-FA89-4EE3-B9F8-F9D59A3DB9D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F385332-C20F-4456-B9C0-ED05CC15DCDC}"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B6127E3-46F4-452D-BDF9-CC79B3E220A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E5E9808-C11B-4955-9F1A-DBAC85BFEF97}"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67082D1-108F-413D-8A87-2E09E28C953A}"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6868575-F53F-477D-B145-B52D4A3F4A07}"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6CD2373-4DF1-4D22-A19D-E532D040C423}"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A74A7E3-6B14-477D-B1A2-B8F1303ADB2A}"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F816B54-EB35-4913-9314-400FD10BCD0B}"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4250B2E-B92C-45E7-9558-92CEF8D5ACA9}"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5884CAF-25A2-4CFB-9A83-7AF9516F0ED3}"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CF080BA-2322-47BA-93EF-789F6D0198E3}"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26FC936-F7FA-403C-BCA9-51724C81C97E}"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87E9AA3-F115-4B73-935E-A0A9237911DC}"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7671DBD-21EB-4315-9189-2D5A00AE1047}"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9EA40ED-C1FA-40A7-BCE7-6EE1257AC9D2}"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9A68CD4-1640-45B0-8CE6-99847FAF2BCF}"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D12364A-76F7-4D9C-80ED-DBD615E07A4B}"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32D7D1E-160F-4FF5-BAE6-2F15539612C2}"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29FCC70-4AFA-4719-AA99-3E2F48E3F865}"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EF80D2ED-0BCE-4B9D-83E0-82F4B72E6471}"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19CB50F-1172-4A3B-BB72-E1BF45A5E42B}"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45AD7A1-345B-47D1-85B5-2BE4A2EBC425}"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5EDBC3D-18CD-4916-B5B5-90A22B11A0A6}"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416365D-4F97-4975-8E57-0F811BAF419D}"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FF3C640-8A41-4B61-873C-930FBCEB3537}"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A2D799E-879A-4CA8-8286-3A6C3E881860}"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6C2C82F-C854-48A3-8254-A6E50473A7BF}"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EF72C4F-3929-42EB-BF21-77FDAAAE8C40}"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B89BF17-4104-496E-8720-F3D4C374A6A2}"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C0CFFCA-E551-4C91-9C1A-619776C66F93}"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5968CF0-1746-482D-82C5-7AC944957E62}"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18958CD-3E33-4FD5-A8A4-F07F9A07D03C}"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3B431C3-7703-4C5B-9765-830B507A1D1A}"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