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2D107DD-5F76-4CDC-8951-F7035AB0F1A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20DF1B4-9CD9-4B99-8975-5C0DCCF38B5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F0AD6C2-7E48-4E15-BF9A-23B251176B9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0268627-95FA-4D02-AC2A-5F17A91668F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91770C1-63BD-4DE0-867D-065F9A485A2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0793A89-4ED5-46B0-B4BF-5B49EF9DE10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58581F6-24C5-4792-AF36-F88B3965A69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2A1572C-7125-48F4-ADD6-3C0CDBA7FEF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6DCD2EC-72EA-43DF-952E-1B276DB6333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CE9C6F0-E914-46EB-89A3-833E4D8647E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4CA039D-5ED8-4037-9527-963DABDA788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0F83270-930A-44F4-B4AC-E2FAC77B963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2F63E19-B835-4F32-87F1-A1A3D9FD9A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03B1B4F-AD28-4DEE-A946-0D3EDBB14B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E2781DC-73B0-4D8F-9CDF-DC4A89581C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A13E44F-61D9-4553-9A77-4C047665C8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215ECAF-4E0C-415D-8A96-8A9A38A7AC1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2FD92E2-E0EB-4536-90A6-FDFB28A1A31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E733BFB-2707-4B8D-9825-5293EA5AF1F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1CA9705-06F4-4084-8D5C-B70FD627ADC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EC7ED4D-9845-4687-9704-31C7333363B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57F0E92-B24C-476F-AE7B-C94DFF9EE6C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B47B159-ECF9-4B95-A589-DC48EE789E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13F502-736E-4F1D-A11D-852CD6DF5B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2A61DB0-572A-455B-A8F9-DE54F6B1C7B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B4CC9AE-A6BB-4D35-97BB-46EA54AEF27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08125CB-6F4D-43E3-8D28-F23B6D75BF4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0CA3B7D-6D81-495D-A0A9-A737A8DAF80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4079E84-E9D9-4BDE-98AE-7925B94FF06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883EA92-D7B6-413E-8D42-01B406A0A4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4D09EE8-E8D0-4467-A7E8-F7628F515B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98F374-A9E8-4655-97A8-58F1106089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8B04938-60E8-426E-B49D-4AE6AA1594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06A7EA-3FD1-47F6-873A-431091C3A0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57E3F5F-4738-48B4-994A-DD6698E5CC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FCF169-378E-4F87-BFEF-12620B7D2C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FA8C2-8D6C-4042-8F66-05A83537DA9B}"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9DD54-B664-4C76-816A-2B8EA4AE962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0631BFE-5548-46E9-990D-B7D62C285A28}"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D54F625-7FC7-4C7B-9D8A-A113A0F4F993}"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AB3CE43-83F9-467B-B706-85BC26BE9601}"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BBD0C1F-452E-406A-BA49-5270AE1F9C6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DD75555-648F-4C71-ADF7-FD5A30115E11}"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67D899B-5B26-4509-918C-6CF32A245AC2}"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DDCD21A-44D4-4638-A539-864C3602F2B9}"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4396B54-3D34-43F7-9579-DBC6B7EB4C02}"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5D3900F-2C0C-4FCE-8631-7290C2F7D1F6}"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109C9CB-9CDD-492F-BA22-E68A986D0884}"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D619A49-475F-499D-98AE-CBF80486B834}"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A9E0C7F1-169A-4267-8380-648865977D43}"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BE38F2A-8687-437C-BE58-6B6931F68EEC}"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B449A0B-B6BA-4EDA-B20D-746E88FBC0FF}"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81C1825-D2FE-4BCA-A7C2-E98D227DDB5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F345052-D690-4BC1-94EF-11D4B2F33261}"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BAF948A-1D4D-4573-B1E6-84D3986C77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9D41EA4-DFA6-46B3-8341-C61B77E2FA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3D88E65-CD14-4A7B-9BE8-F4F47144AE50}"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E400D34-07A5-4F7B-ADBB-DD8ED9FF3A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90AD278-D9FC-4FE7-87A5-00382EB22E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CB4CD88-4819-4770-8735-5C59CB0CE1C6}"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38D8E20-D639-4CB2-94A5-FEB3BE654A6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710F68F-D6C3-44C6-8F84-988F158C2E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7A7D395-701E-4634-B897-1CE072B161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68B9531-F591-42AD-A7F9-E6E13034F7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EB839A0-4EAB-4F20-896D-8FAA5E421993}"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ACE91CA-8710-4258-8B39-51709A3EE97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95B1C71-6FC9-4743-96E5-0ED2CAABB9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E2A6F15-6072-4004-8DC3-9B6838BE127A}"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6345B61-7883-4266-8238-DE2D9497E1F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3D7750B-66DC-4F51-BAF0-DD6CF9696A6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61E10D4-A7FE-4351-9716-36C7FDB757D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C64C8DD-E466-4E1F-A3A9-94C9DAAD264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C49A8DB-7F21-4B52-9936-38962D51CEE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D15289E-EE3A-4F22-85D2-14379AFCEDE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751015F-4F79-4380-A4F3-BC0DBEB4735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33C202F-92DF-4C45-B826-E70D2E1D151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AA810E8-5BE5-48BF-ABD8-46C1E10C468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F89EDA8-B995-4ADE-AC25-251F764BB4D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A82572E-8560-4C35-8738-267EC6D2612B}"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BFE54A9-E28E-41EB-8E0A-DA447B3F5E4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E2AB7AE-B7E1-40C8-8AE8-7DCA27D24E30}"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E5B6B29-2BF1-42E7-860A-711E06F2116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040FD27-3FDE-4DEC-8101-F05C1DF465B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85A14D8-EBBA-4E0D-A84D-513C3237904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D40ADA3-7C6C-4964-B8C4-FBCFEBB1703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D5E4956-50FB-4F36-808F-5E663F53A20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2AB51B8-67B8-4910-B466-7ABE669B838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D82D9C4-B1A0-48F1-A10B-E3A49E7138F7}"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1FAD192-B653-4DED-9511-A276F8B69481}"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1157AA9-90FF-409C-965A-DE93E68AFAEB}"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4FB6EA9-972B-4329-82B2-555567CF9ABD}"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F349921-665C-4493-8FD1-802C5835FC1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56F1903-9F4F-4D7D-BDFA-F6911A6EBCA1}"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BC2A172-F428-467F-A775-D061909AD461}"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937AE3F-0C96-41F8-823F-BB1A86EB9FFC}"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CD5601E-06C1-4547-BADD-9F5B6AD50EB8}"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B2140DF-7FB8-466A-BD2D-84BE0467FF5A}"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5395AC1-3180-464C-9AD8-5F9BFAFF356F}"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AC5D05F-B666-4629-855D-B24FC1D2F2BE}"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9CCE057-70A9-4EA3-B104-B91BFACCFDF0}"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6256C90-A374-4F87-9CB9-90466885B863}"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DFE57DF-DF86-472F-82D1-ADD6E3B41C1F}"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0FB24A5-33C1-4B9A-93E3-C99BC68F0F45}"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042A3CA-0A68-49D7-9EEF-A5022638E949}"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F483F28-A8FF-48B1-BE67-0A75AC7FC770}"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C0BD343-90A9-4493-B8BC-170589D49CAA}"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54140A2-52C7-4CA5-85A3-6F65A98815CC}"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A5C7430-9DEE-42CC-A860-8C14970B1A9E}"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F772AA7-9DC8-4EF2-98D4-3D9DC1A635C6}"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5CC709E-8AD3-4026-AF4C-B8423D6573F2}"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6D7E598-4CD7-4B7C-BD14-5E2CBF716274}"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9C7DC0E-D99C-4486-8E43-49FF462FCA29}"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1EAF79-5033-4F1A-BC2F-57DF452B0F2D}"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EC488B7-F4C6-4A99-83EE-D2D94816824D}"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389D8D7-5F38-47A8-8C7E-F3628F973779}"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5FB33BB-A24F-4D11-AFBB-E4167598A24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45B962A-2C8A-46F2-A8DD-6DF90AA6D2F2}"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EAD3627-C586-407A-A2E5-A13D803DD08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EEA6DE6-7DD4-4F0A-BA3F-68FD142A1ACD}"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F885B02-049D-49E4-8769-5FEA7FDC42B4}"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3C7E9DC-65E2-43EE-B03B-051C1A28A3D9}"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B80E8F1-03E9-460C-8894-A1AE8ECFB4DC}"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9649D38-CFDC-410F-964A-2D95E531CBFD}"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92A930-0167-4AE5-97FF-D785EDC8B568}"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C286351-2BB4-4C80-B7C0-5938ED4BAE74}"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FFB7CD2-6C84-4F6F-A57D-8BC2A4DB2BA1}"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8875F6B-AB04-42AB-8070-38A0CA902BB8}"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B00F37B-B887-4AD8-AB78-2491E529B195}"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3201C8E-10E5-43CC-A97A-A30879491419}"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0BCFD3E-22FB-478B-B70F-2DFED7F54A6F}"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5C3FF1C-FD7E-4585-9479-78DF243CE1F3}"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0E91F2-3997-47EB-97A1-E42F364BB16A}"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05AF8BB-0A7D-4DFF-9C1A-7049B0DEA468}"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2107CF2-DD06-4BC5-8DF7-80E77EE51256}"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F4176DD-FD68-431A-8E5B-0AD3DB12A9D8}"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179C30E2-CC6D-48DA-81CA-9307B9CE6CFF}"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2FC799D-EB5C-4489-91EE-D2DB8B2804D7}"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F583FD1-25BE-47A2-B908-D0412253CC7F}"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D50A4F1-37E3-4DAF-A1A7-67DEE9B96958}"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C98A521-B0EA-46F3-A770-D8EB3FE926A3}"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782C8E9-D8BC-4BF0-8F02-4A0221F29098}"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5FD7ED-FB5F-4BAB-A8DE-A67AD08550D8}"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9AA295D-32CE-4C9F-A66D-1DC9745729B7}"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61B0BB0-DA68-4DC0-8821-1F8705541DCD}"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9D0FD1E-78FF-4D32-BA7C-BB8D49742920}"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8A9EF9C-1A4D-46F0-BFBE-69AC11870A36}"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6798D2E-FEE5-4506-B0CC-4802D6814B4B}"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FAFDDD8-9AE0-4B50-9A42-28DFB58DFF18}"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B8B8144-C691-47CE-BF33-E30C3F6A151A}"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